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760-23A6-47B0-94FE-DD046515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C53-27DF-4471-9FA4-206E333E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16DBD-93C9-49D5-B9C9-3FBEC1E5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0C523-71D7-42E1-B575-CE38FAD3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6415D-0641-439E-9FDE-DFF540BE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CD23C-5ABB-4B1F-940B-8D3C28B8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31E85-030D-419E-85E5-E6A6E78D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65FA3-FE3D-4419-A82F-7686298F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72673-77EB-4281-A300-D3B1BBBB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686E5-4954-49B3-BBB1-F8AD2382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7555F-790E-41A1-A95C-4F02F32F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CF1E2-1BC9-4687-B243-7BAB37DA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716-A17C-45EC-BACE-190BE0D9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8E077-4E53-49B9-AA90-A7792B96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D54F5-2D93-4265-AE3E-10DD3DA8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A87D4-7BF6-45DA-BF3A-A90B659B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FED2D-B7CF-46EA-8D4A-0897E631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CB8EF-9382-42DE-9582-5710161E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16BBB-7764-420F-AE6E-FBABA6D2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40A42-5314-4398-BD57-34B3140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7839E-ECE8-452E-B3AD-6F36746F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F3C67-56BA-445F-9D58-A749C480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4237A-F233-44AA-9744-6B63660B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397-8319-41E1-8989-2C031544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AC238-AE91-412F-8068-E7558620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A7CCA-8197-4407-BDA8-2E59AE32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A1FA8-5AEB-4C3C-9D91-75157056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E23E6-7767-457D-8ECE-22398984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FAD5A-AC47-4BD2-8C2F-268498AE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29A6C-6422-4641-8E31-0D3262D1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3380F-7910-44AB-BC62-142647A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5DE5F-691A-4BC6-A5AA-3A8B1342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FE958-E7AB-4A37-93EE-0160948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0DB94-4A14-42AB-B312-869368EA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22F0-C445-408D-AFA0-BA3FB289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CC10A-211C-496E-B257-F2C426D0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B6514-C40E-46D2-B352-8E3DED2B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27226-B1DD-4F1B-99C5-0E83B0E7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BCDFE-B06E-4003-BE51-5E506D3A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ADC9F-0D4A-4EDA-A98E-3453B65E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BF55F-1BB9-403C-9AF4-71E9793B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0D9DA-72D1-4F1B-8BCC-CFB580A8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03EB8-C0B5-48CC-86D8-2150188A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454AC-F3AC-45BA-A1A2-6CEB3A0D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BE98A-A80D-4375-8EFD-408CC64B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FEFF-0061-4345-B892-EDF929D3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F9C69-94C6-4DE3-B27E-756C0D9B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DB241-F1B7-4D0D-89A3-6D4F28C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207A5-978C-4FBF-9550-B0F402FB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9DDFF-C7E9-470B-B1CB-73B56731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835E3-141C-410F-A9C8-BF291BD0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646CE-E114-4BDB-8C3B-BFA1549D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2BFC4-0A54-4C32-BFF6-A9C4F045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62F06-AE99-4ABA-99C7-83117F53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601F2-400E-479C-BB21-C9D937F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156E0-F29D-4F9C-84E8-2BCD9A7C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EAE0-8259-4D99-BAAE-2DE5D865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37E1B-9C47-4A49-B88F-60BA2065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B53A7-59CD-4390-A433-C9652E9D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82FD7-5EB3-4402-8148-21922402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48BFF-0BD3-48A1-8B78-8FD9E79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B7907-5C66-4FAD-B1CB-6C557EC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4AEDD-3FBF-4ED5-B56A-C25AEE37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56CE0-7F20-43D3-9EAA-837F8EAB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F7C28-DF0A-44ED-864C-76D6C0F6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C828B-0D20-4C4A-B400-6FB8CF9F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0382F-489D-40D7-B531-BF39DA26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BCEC-ADCA-42CF-8165-40E9AAC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29435-FA9A-479B-BC2D-6591A8A2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B3436-8C7D-40FC-9D71-D5235917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40A91-10EE-43F7-8558-80D12414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A0BEA-7A82-4442-8CB6-C1DE1E9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5AC4B-9F2D-4E50-8B86-1B77988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00C63-9D4A-48A3-AF2D-1EC39B80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09B98-DF3D-4C02-AC36-5DD9CB22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ED997-FB25-4BC5-9C22-2081D869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A529F-F8EE-4129-A01A-7F8259B5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AB18B-B9B0-4036-949E-D38E4C3B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1788-A856-4A8C-8890-FDFFCCA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6ECDA-6CB3-4A13-A2A1-F831E6A6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2A998-4E21-438E-85B9-BD3F9EAC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EAE16-1933-4211-9999-86259055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6B248-501A-41FB-8324-EBACD666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AB35F-D5D8-46E1-ADF6-D2803ABF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CFDB1-E3BD-41B0-BE64-B4E8358B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BAC9E-9E73-4B42-9664-80AFB2B5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DFC0E-00FD-4AFE-B9F4-3B02E71B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CED51-F28F-4524-9B95-5A2AE6F7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6C878-5277-4EFA-B374-5981B6BE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DFEF-97A6-4638-B5CE-BA66CBA1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41AD6-6CE6-4E64-B340-C1DBA292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85E50-EA15-41D8-BB8A-E4717423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5AEA4-7507-4F0F-B4C4-B904E1A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079A1-A375-4F84-BBBF-CD9B4D84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456AB-38CD-40E9-8D24-A4D62F75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A522FC-F011-4517-80D4-38B3B584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1D26D-E7D9-44E6-BEEA-B59A2723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C6473-91B5-4B71-B703-F1B0248C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AC11C-F559-4FE6-AC6D-7CB4768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633C8-8B29-4C59-98DD-334A240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816D-FFFA-4F14-9411-21535B5A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DAB24-767C-428E-A863-2232C7C2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35BF3-0756-4A45-B74B-5BF319BD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E8567-06B7-4057-B0AA-EB41FD75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DAACA-1358-495E-AD51-B24D2F87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2A4E9-4E2B-4AE1-80DB-C4E15523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59E9D-DA98-4B65-AF60-96EB3C1F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419A4-9A99-41D5-A943-609FE43B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9E289-A6A8-473C-92AE-C0B0EB1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B5BBCB-EBED-4770-979A-6EBD07F0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C5803-58AF-4542-BF84-47FDFDA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047-F321-491C-8886-CA076631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4859-1546-4611-B1E3-6D3B3F39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ED0FB-BF7E-4045-B255-4A1677A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685BB-52E2-4139-8E75-C529CC32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B3266-195D-43C7-A659-856869AE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FE735-BDA5-46F2-9DA4-00032068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62A42-B5FF-4E10-B97F-B1B6525F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58640-B795-43FE-9F44-97843A22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57527-D950-4EC9-9BB0-12F098B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3D671-FD24-4DAE-BE28-7351C9AA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099E8-A05C-4C21-86F3-E3D9625D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F40C7-BFB9-48E0-B26E-0104EF50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8A00-BFC5-49DF-A32B-4C06DF41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CDF19-4F5C-49C4-B090-5B5D7DC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4C33D-085B-4099-BF94-DFD7EAE9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925F77-55D3-4845-B2F5-D732DFE7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E3A19-FF5B-4CBC-9F75-9968F39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E2020D-08C3-40F6-A32D-20613C2A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3CC45-6596-41D9-93F1-585BFAF4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99254-F75E-47F3-8E30-9C8A8448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ACC59-FFCE-4C23-A77C-CF48B420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69160B-A6A8-4B87-843F-EE1FE3E8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139F3-4363-477B-8BAC-43DD5FA0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D9CC-2C82-45F4-81F7-774D95F8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07E0A-A3F1-42AC-AD3D-9AD18A5C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0B527-C2E7-4161-9140-7298E4AD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1CBFA-7AC1-4E30-ACEF-68A00ACE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59940-D142-422C-BF70-24277C7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8BCA80-9BAF-4829-93F4-F98F3419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6DD3E-808C-4173-A544-3521DCE7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DE7B4D-D185-43F5-B826-8C2FF4D1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0EA8C-3C54-4225-9A7A-F2438472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91D43-03BF-4763-B27D-B7D9EAE9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74DCE3-6A51-46F9-9925-FEF46751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8D10-E51D-4D92-940F-A6DF14DB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709BB-74BE-4CB7-8B7B-1BED4B33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26F5D7-0284-4AF1-BF5D-3DB5EA23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8416C-7CEE-4DD7-A9FC-F87BD78D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3A09DD-1743-481C-9D2A-EA24B50A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BAFD1-5745-4136-AA5C-96EBA87B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FD291-FC4B-4A53-912D-0FDAC07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2A22D-0F9F-4EED-BDCC-F4CFC46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4D91F-C84B-457A-B9A4-78B44F7B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A21FC-2E75-4B9A-A96B-87048F2E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56255-D1E2-4B35-983C-2C36CC5F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9D32-52BD-434D-A4A6-5B5BEC37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3D97B-50DF-4457-8961-7154EB9F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B0797-D6BD-468B-ADE7-73E53257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4D6BDC-2C1B-489B-A8C7-BDABD94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263076-DE4E-4283-A617-BEAC47A3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F68FC-DF6D-4531-95FD-44C7DD6D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62E777-9E4D-40B0-9FAF-A0AA15D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25BCF1-EDA8-4856-9E5C-776B22DB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FE0169-2CF2-4950-9B12-A0A29EF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48F104-76C8-4352-AB99-51A46B4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F844E-6E1F-49E6-AC43-BDC3EA77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1EA7-6E73-4DF6-9307-BFB0452A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E1D546-7558-4280-91F1-FDC67AF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25A9CF-B679-4FA0-A048-BABABD65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9B3A5-A8EA-497A-B324-DF4E9FEA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BA26AF-46C2-4876-A76B-3CF2B113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C366BF-CBFF-431E-8BFD-B883F76D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D83F67-BE25-4806-AFD6-B5E9D358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D83512-758A-42C2-85CB-4DA4B63A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8C44F-8417-46B8-B40E-D5B5AB6A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91EBD-65D2-4089-9B0F-B2085DBC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66CECE-7DC8-4FD2-B42B-36E73B2E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5BF4-FEAD-4AF8-9679-F2D15BB0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58BD9-E3EA-4CE3-9CFF-94CF747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72DE92-3132-4E6F-8DDB-F806ED59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65D8A6-3F29-4740-81BA-2571A28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B201A1-E35C-46E7-8646-083B85AC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5FCCA8-9E7F-4E4E-ACA7-15CD856F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EA8A08-B66D-42D4-A25B-D5B68061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BB8CE1-4E41-43B3-8789-F7ED553A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9ECBED-6754-4BD1-8133-F9DA49E9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1381B-B9C3-4D70-BEA1-05685F66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5A9DBD-2E41-4B49-AC60-9BD40CDC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F9F1-28FF-48F8-ACDB-045BDF94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4A582E-6C3B-441C-8652-C6A9A50C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03FEF2-9FC2-4C6D-A3C6-794B83FD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0BAAC-D04A-4C9B-9278-DE7D5DE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42FAD6-1AED-48DD-85F8-4B1C0C1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E3EC9-10D6-41B0-A31F-3898B2BD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C19580-ECB8-4F14-A3B0-CAEC87F8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053902-17DA-444F-BFB4-2D70FE23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331168-5A82-4B89-850F-57F44076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21FD85-D4B1-46DA-9009-5E947C28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F88760-8C3C-43C5-8674-23BA2707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8D84-7ACB-4D5E-AE3F-39C87BF4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B94FF6-6720-4500-B6DB-743908CF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25BD97-C50D-495D-8764-9EF38054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0BE99E-F146-441E-B692-CBE3338C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19DE4D-C986-4FC5-82C7-AE3ECBE0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077E94-424B-4391-91C7-5D092F1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AB3DDA-3A3D-425D-A7F3-D486D189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08967A-C0A1-4280-B0CA-D5F0BD2F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818A9C-F3DC-4023-8B0F-E2441918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B23A71-A0AF-4170-AC5F-88FCE16E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FC37F5-991C-4450-AA15-3EC8B198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860D-624E-4C07-AEC7-186F2C74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4465AB-2AE1-483C-90F6-AB731B17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1EE126-DEF2-4CC3-82F1-04B33E39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0C8DF1-106C-4082-892C-5B2AB1CD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84591F-1CF3-49B9-BAB7-ACDFCE93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58DF1D-8A31-4738-92BF-40DB476C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CF8C19-C524-464B-BF49-6F8FD6C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AC12ED-5EB9-4F58-8FAD-F75FE4B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E8E297-A863-4E6F-98C8-95DDB86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B94A37-8ED2-4A30-8DED-59E6D2E2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E1BFA1-A714-4F55-9328-AFBC9EB5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2D3-D43C-41B6-BA54-06AAF861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1DBB-204B-4917-8F36-707EDB2C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80318A-0827-4918-B2F5-B4C647CC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ACE5C2-932A-487E-9A7D-4676D241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588E76-110E-46EE-8999-68FE1F34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E280C6-6AD6-4307-B36A-D6013036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D5E7AE-B39C-422F-8872-3C237F9B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057925-7B43-40E6-AE37-7D937679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2D8C7E-4CB4-4539-98D0-1E94C5CD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AE9982-EDFA-40D2-B034-D485707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1977FF-875B-438B-8AA5-D3E1E85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1EA7CA-70AD-4346-AE09-A4CDF92D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46DB1-D242-4161-A834-41DC707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D9026B-9A8B-400E-994C-D9446C85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4C2479-B0E9-4B61-B43B-F7F7B2B4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0EFE58-6BA9-4DA6-83AD-FAAF591A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45B671-F8B1-401B-BC1F-B834A4F7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11295E-4898-4712-A705-84384217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1D8AAF-D02F-4FEB-94A7-858FA9D0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58F91B-F4D7-4A6E-9C8F-0385EB51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7F806F-1F57-4990-91A3-16B84982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C313E4-247E-48C7-A66C-F1898807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7B118F-CF49-4DD4-953E-E4B784B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01BA-5639-4A7E-886E-C5C9C1F3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775222-4AFC-4185-A4E4-1573810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E0CEC0-5AF1-481A-AB43-34B6723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06D03C-D135-4979-B209-EDC3CFF8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C3C570-647D-42B4-9CB5-362BDE99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9F6265-CA32-4009-B44F-C97B8EEC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EDC9FA-8BB8-4BF3-9AA9-1891E9FA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4FCB05-3C3A-49C2-A914-EF505B5B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090C48-466C-4DFA-827A-F18EC6AE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4E3F5B-6254-47B9-B9A7-397FB04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BC88A3-A12F-41CF-B621-B8B902FD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BC4C-2464-4875-8AE3-478E8B40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E02E77-F0E9-49A4-ABA7-8BA89C46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9B4CB7-B97E-4016-9E9A-0BE59C3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135A25-3F81-43B5-BE70-D9AA3A27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C96DB4-005F-456A-9CDF-1E1FA159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CDE596-CE98-498C-A5A8-027516AF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F22249-DCB4-411B-9D1E-EAD531AF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5A74FA-AF0E-4358-8FC9-ACED7B0F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2B6FAA-D42F-46AE-9893-050578DF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1F6E84-BD92-4FE8-A409-92F57380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95F3FC-6ACD-4CE2-AF5B-B3110350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98B5-5609-467A-9D16-E06B87EC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CCE587-D144-4F51-B66B-777D45B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DAC13B-5593-4599-AD8E-8CAC9FF8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DD5D55-BAF1-4DE2-85CB-630F0DC0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3E2344-341F-427F-A062-6C27F9ED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1B9DC7-E278-4AD2-A274-D23A99D7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B06657-E893-46DE-9754-C4E641A0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DE660C-100C-465E-8C4C-30630F02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7C6F00-E4E8-44A6-A1CC-BAF72135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D7E0AC-B212-4467-A4C2-1B908477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05BF2D-FB61-4113-A20B-757B56D7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03B9-761B-4EC3-AED4-DA44564B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71BA91-6E5E-48A7-9FF5-EEB7C842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E7CB03-6606-4454-837A-AEB4028E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9C76F3-D8BC-4A30-A440-41AAE1C9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74BC7F-6E96-467B-8282-B14817C3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4BF493-137F-4E45-8814-650D6098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38CB69-1D3B-4178-833D-D3BC8DC8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8E516F-812E-4089-B817-B395157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6BA901-9927-43B5-B7FF-359FE833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8D7A8E-ADDA-4527-B5FC-1D445E77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AE95D6-5D83-41E6-B109-EBA5B65E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07A1-C21A-42B7-AE52-030F8872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C77F6D-41CF-48D3-B7EE-8339DC02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C86D0A-CAF1-4B19-B678-98BFA9AF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70E48E-2912-4C57-9E65-B745DBA3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1EBF14-1F5B-45A0-8829-43E63234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EF4CD7-C005-4675-863E-E422483E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76CF83-3726-437D-B325-6E0FBFC9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FE104E-FABF-4886-8A9D-7DBD2B45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C16B2B-CFE6-4A7F-807E-1E66B8C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228A5B-9872-4837-986B-B7A8087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CDE11F-FB91-444A-9137-7147366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B7045-B50D-4B3F-8904-FE8D9A77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C230BE-BD70-4D92-9148-1B90A29C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674A8E-F64D-4C46-8998-F8B8AD7A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E360B5-09DD-479C-A161-CF52AE19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123A-9CC3-4E4F-B9A7-9CDC8428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5CDA-CCA8-46F0-9A55-2DCA4988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CB6-AA91-4C44-BD3A-7E526240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33BE-3348-4CBF-8E97-20D58395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B55B-E616-4794-987C-E6DCE651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E74F-A3EE-4AE6-B1FF-5B962987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31E41-E225-4A70-91D2-7FFF9BD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41516-D188-4660-AFF6-16F9AC1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7766-A3AF-4764-836F-E3CBD85F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3F3F-0B3F-4B81-BD74-D382DBBF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4525-B70A-437C-A38D-F61F4F1F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25ED-5C24-4902-922C-B5D14DEB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6F2B-0976-4177-9C84-C60383D6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492-D801-4737-BDD0-76FE5A14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F09A6-8B2B-4C58-A261-448BA1AA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9CCDE-D7F4-4DA7-9D04-6D173D78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CEF6-C3C6-44F0-AC80-E6D7E8A6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0D52-C980-44C2-9576-3EA63A8D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D2686-3A0E-46B3-A4CE-96BFB4C4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400B-EF6D-4352-BF89-3911A259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FF8D6-3EC6-4947-89AC-56EB055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35A5A-0FB7-44BD-A575-7E328C98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F1234-B42E-4BD0-9029-0E929F07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7D1A0-0C63-4038-B5C9-7F0A690E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7AB-5C4E-4118-8471-CFAE3844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50E3B-6D17-41C9-A85E-7D095D83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BF46-515F-4557-8C3D-FC02BB83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8B4B5-8913-47A9-854F-59908C49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FE819-CF52-4024-9AEA-22BBFDA0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756F2-81EA-484C-B270-B5FF50CB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61B70-C4AF-44BF-8C49-C105FC31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A567-FCE9-41FB-9050-3F8B6A5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318E1-C388-408D-A717-D539797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757B-E1C6-465F-BADE-1E2A5381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8CBC5-478F-4C51-9855-1F1E6D64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A4B-93FD-4A54-BE98-B575B3B4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F423B-8F30-49EB-A8F9-61C47D76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6D4C6-91AF-421C-AA85-09FEC0BE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FE59-C01A-450E-8EC0-0A2CDFC8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5B8EC-2C56-43EA-8C37-1908101D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4E645-98EC-4AF9-96CE-5425F7DA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0A26-D659-4CA8-968C-41C5537D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12AEC-88AB-4EB3-9617-0DB37E36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9EE5F-DC10-49E2-B972-A7ABF587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8DFC9-CB4C-4B0B-98AB-6F97944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662D-8039-4E2B-AA2F-DE212C1A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765-FF88-4AD0-8D02-FDACF54C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6BEDB-DA07-4811-BA95-36C7B914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C8B41-84A9-4892-9522-04105AA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52A86-2115-441B-BC77-2788F559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CD7AF-8136-43AB-BA9F-48E11DE8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A6847-19AF-4F8F-83F4-47D5678B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FCFB9-FCDB-46E3-9C4B-A4B2C4B3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42564-3372-4537-AD4B-84F98054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20382-9810-49EB-B64A-2D4085EF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BFE32-F8C9-4E56-8C22-3777CBAF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BD29C-157A-4209-8221-C96C13DB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9A3-AF0D-447A-AF32-482EC250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E3E44-B0CA-408E-9C51-5C31A495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39E5E-5352-4EBC-BE9D-C355D664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7EDE7-2499-456C-A5AA-E190A55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93C66-E3B7-4465-82F4-90CFF4C9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C5E3-40E5-4E67-9FB8-EFC363CA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E6289-AFBD-4E3A-8C38-DEC52ED9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D9D74-DB21-4C11-855A-BD43C23A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61EDB-0091-4701-AA8F-AAC783B0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C7C0B-0C8D-463E-ACDB-31BE60BB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EAF7B-5723-4E25-96F6-54B8E529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DD6B-CAF5-4570-9362-B1DABCD038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75B0-F725-4C77-8FDA-6B4ABB7CDB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60DA-6D67-4C95-8A5E-CBD77EDE7A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46AF-F7CC-4748-A764-A03D902511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B07-C56E-4572-B771-B36B2140F0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D894-BAAC-44DD-8470-86CFE1070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A030-619B-48B4-9B03-1478006B23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A2AA-FD80-4E48-BB9E-270A5B9D03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CBDF-E3CB-4BDB-958F-CCA3644A2A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5770-2A1E-499A-B427-87E041045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1A79-49DC-458F-BBF6-78C167257B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4BD9-518C-4B28-807E-F892FCF5B1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164E-E205-4729-9C21-E5F2404FBF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43B3-B394-4D6A-AF6E-6FBBEC14B1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872B-2BB6-471A-A2A6-8F995CBB53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A07-7D7A-4978-9FCC-F4B465A50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1293-DA16-4F33-903B-4D00F23C2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6864-A6F1-4E68-8019-8E8CDE8DDA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BEB7-C700-43A9-AE2C-277C3A8D0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4CF7-5688-4D4E-8668-99A96C8C5C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498D-4B7F-4BDF-AB77-DF9D6FD9B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A30D-5431-43B4-8AC7-F307AD99EB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A249-50E4-4A25-BEED-37CB47F86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126F-2560-4514-9112-D4AED7DA99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3EBF-DAA5-46D6-A352-FEC806A50D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530-545B-4006-8822-C20585B4FE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E606-CDAB-4725-A83C-35EEBA8874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09D6-D863-4CC5-89C3-A61E798EE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067E-4268-4A04-B5C5-9FE0D66ED3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40D8-DC23-4BC8-B454-353BB82FC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B3BC-217E-4434-BBCF-FF3F4457A4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AE03-52A7-45C7-BA1D-A3D4220A9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9663-9611-4FF4-87BC-FE9FE328BD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00C0-E6AA-41C1-B63E-2D9423DC94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76B9-C977-4BA1-81DA-3FD4CD67F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2526-FCD6-494E-8045-1BA3A5A12C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F7DA-BDE2-4A7E-A0DF-B6910B185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9EAF-7875-4729-970C-670554AC6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7264-728E-49CB-BF32-FEFC355E50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5257-7723-49AB-9D17-64EA9DDA62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80B7-A458-466F-95E1-7BB8A054F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CE3D-A210-4A26-813F-800D005A6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3C50-9500-443F-95D4-DBF80736C9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B5F7-6770-4518-9F98-A8BF1CDB4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7A69-DF77-4021-AD66-3957F81E6A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8870-3536-4898-92F6-E55920B997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B4E9-0D7A-45F9-943E-AFDEAA3E69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A57F-DDEC-46E3-92C7-B18C3B700F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6128-DAE8-424D-9BB7-3F35525686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D369-A0B2-4622-920E-DCB6C6F934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452600" y="2390760"/>
            <a:ext cx="6124680" cy="6667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604800" y="3324240"/>
            <a:ext cx="7896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6737" descr=""/>
          <p:cNvPicPr/>
          <p:nvPr/>
        </p:nvPicPr>
        <p:blipFill>
          <a:blip r:embed="rId1"/>
          <a:stretch/>
        </p:blipFill>
        <p:spPr>
          <a:xfrm>
            <a:off x="581040" y="890640"/>
            <a:ext cx="7981920" cy="507672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6738"/>
          <p:cNvSpPr/>
          <p:nvPr/>
        </p:nvSpPr>
        <p:spPr>
          <a:xfrm>
            <a:off x="5148360" y="2019240"/>
            <a:ext cx="1714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6739"/>
          <p:cNvSpPr/>
          <p:nvPr/>
        </p:nvSpPr>
        <p:spPr>
          <a:xfrm>
            <a:off x="5776920" y="2575080"/>
            <a:ext cx="181944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6740"/>
          <p:cNvSpPr/>
          <p:nvPr/>
        </p:nvSpPr>
        <p:spPr>
          <a:xfrm>
            <a:off x="5796000" y="3193920"/>
            <a:ext cx="876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6741"/>
          <p:cNvSpPr/>
          <p:nvPr/>
        </p:nvSpPr>
        <p:spPr>
          <a:xfrm>
            <a:off x="4067280" y="3789360"/>
            <a:ext cx="2305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6742"/>
          <p:cNvSpPr/>
          <p:nvPr/>
        </p:nvSpPr>
        <p:spPr>
          <a:xfrm>
            <a:off x="4067280" y="4349880"/>
            <a:ext cx="876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6743"/>
          <p:cNvSpPr/>
          <p:nvPr/>
        </p:nvSpPr>
        <p:spPr>
          <a:xfrm>
            <a:off x="4067280" y="4941720"/>
            <a:ext cx="2838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6744"/>
          <p:cNvSpPr/>
          <p:nvPr/>
        </p:nvSpPr>
        <p:spPr>
          <a:xfrm>
            <a:off x="4067280" y="4941720"/>
            <a:ext cx="28382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6745"/>
          <p:cNvSpPr/>
          <p:nvPr/>
        </p:nvSpPr>
        <p:spPr>
          <a:xfrm>
            <a:off x="6084720" y="5516640"/>
            <a:ext cx="18194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5713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7924680" cy="400320"/>
          </a:xfrm>
          <a:prstGeom prst="rect">
            <a:avLst/>
          </a:prstGeom>
          <a:ln w="0">
            <a:noFill/>
          </a:ln>
        </p:spPr>
      </p:pic>
      <p:pic>
        <p:nvPicPr>
          <p:cNvPr id="1489" name="图片 115714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391520" cy="4943520"/>
          </a:xfrm>
          <a:prstGeom prst="rect">
            <a:avLst/>
          </a:prstGeom>
          <a:ln w="0">
            <a:noFill/>
          </a:ln>
        </p:spPr>
      </p:pic>
      <p:pic>
        <p:nvPicPr>
          <p:cNvPr id="1490" name="图片 115715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3838680" cy="40032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15716"/>
          <p:cNvSpPr/>
          <p:nvPr/>
        </p:nvSpPr>
        <p:spPr>
          <a:xfrm>
            <a:off x="5853240" y="340056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5717"/>
          <p:cNvSpPr/>
          <p:nvPr/>
        </p:nvSpPr>
        <p:spPr>
          <a:xfrm>
            <a:off x="3132000" y="407664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5718"/>
          <p:cNvSpPr/>
          <p:nvPr/>
        </p:nvSpPr>
        <p:spPr>
          <a:xfrm>
            <a:off x="7236000" y="472428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5719"/>
          <p:cNvSpPr/>
          <p:nvPr/>
        </p:nvSpPr>
        <p:spPr>
          <a:xfrm>
            <a:off x="4500720" y="54450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5720"/>
          <p:cNvSpPr/>
          <p:nvPr/>
        </p:nvSpPr>
        <p:spPr>
          <a:xfrm>
            <a:off x="3059280" y="616572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5721"/>
          <p:cNvSpPr/>
          <p:nvPr/>
        </p:nvSpPr>
        <p:spPr>
          <a:xfrm>
            <a:off x="5867280" y="6093000"/>
            <a:ext cx="44784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14689" descr=""/>
          <p:cNvPicPr/>
          <p:nvPr/>
        </p:nvPicPr>
        <p:blipFill>
          <a:blip r:embed="rId1"/>
          <a:stretch/>
        </p:blipFill>
        <p:spPr>
          <a:xfrm>
            <a:off x="838080" y="2009880"/>
            <a:ext cx="7467840" cy="283824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14690"/>
          <p:cNvSpPr/>
          <p:nvPr/>
        </p:nvSpPr>
        <p:spPr>
          <a:xfrm>
            <a:off x="2062080" y="3181320"/>
            <a:ext cx="36385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4691"/>
          <p:cNvSpPr/>
          <p:nvPr/>
        </p:nvSpPr>
        <p:spPr>
          <a:xfrm>
            <a:off x="1898640" y="3754440"/>
            <a:ext cx="36385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4692"/>
          <p:cNvSpPr/>
          <p:nvPr/>
        </p:nvSpPr>
        <p:spPr>
          <a:xfrm>
            <a:off x="1908000" y="4365720"/>
            <a:ext cx="5134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13665" descr=""/>
          <p:cNvPicPr/>
          <p:nvPr/>
        </p:nvPicPr>
        <p:blipFill>
          <a:blip r:embed="rId1"/>
          <a:stretch/>
        </p:blipFill>
        <p:spPr>
          <a:xfrm>
            <a:off x="533520" y="1414440"/>
            <a:ext cx="8076960" cy="4029120"/>
          </a:xfrm>
          <a:prstGeom prst="rect">
            <a:avLst/>
          </a:prstGeom>
          <a:ln w="0">
            <a:noFill/>
          </a:ln>
        </p:spPr>
      </p:pic>
      <p:sp>
        <p:nvSpPr>
          <p:cNvPr id="1502" name="矩形 113666"/>
          <p:cNvSpPr/>
          <p:nvPr/>
        </p:nvSpPr>
        <p:spPr>
          <a:xfrm>
            <a:off x="5853240" y="43434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12641" descr=""/>
          <p:cNvPicPr/>
          <p:nvPr/>
        </p:nvPicPr>
        <p:blipFill>
          <a:blip r:embed="rId1"/>
          <a:stretch/>
        </p:blipFill>
        <p:spPr>
          <a:xfrm>
            <a:off x="843120" y="1500120"/>
            <a:ext cx="7457760" cy="385776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12642"/>
          <p:cNvSpPr/>
          <p:nvPr/>
        </p:nvSpPr>
        <p:spPr>
          <a:xfrm>
            <a:off x="3681360" y="2133720"/>
            <a:ext cx="22194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2643"/>
          <p:cNvSpPr/>
          <p:nvPr/>
        </p:nvSpPr>
        <p:spPr>
          <a:xfrm>
            <a:off x="4433760" y="4476600"/>
            <a:ext cx="1200240" cy="7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44080" cy="56196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4067280" y="1916280"/>
            <a:ext cx="4284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5364000" y="1916280"/>
            <a:ext cx="876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7596360" y="1916280"/>
            <a:ext cx="4284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1332000" y="2286000"/>
            <a:ext cx="5522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3699000" y="2665440"/>
            <a:ext cx="8571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5148360" y="2670120"/>
            <a:ext cx="14000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4951440" y="3444840"/>
            <a:ext cx="428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7"/>
          <p:cNvSpPr/>
          <p:nvPr/>
        </p:nvSpPr>
        <p:spPr>
          <a:xfrm>
            <a:off x="2987640" y="4076640"/>
            <a:ext cx="428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8"/>
          <p:cNvSpPr/>
          <p:nvPr/>
        </p:nvSpPr>
        <p:spPr>
          <a:xfrm>
            <a:off x="8082000" y="4076640"/>
            <a:ext cx="428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39"/>
          <p:cNvSpPr/>
          <p:nvPr/>
        </p:nvSpPr>
        <p:spPr>
          <a:xfrm>
            <a:off x="3879720" y="6111720"/>
            <a:ext cx="6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0"/>
          <p:cNvSpPr/>
          <p:nvPr/>
        </p:nvSpPr>
        <p:spPr>
          <a:xfrm>
            <a:off x="5364000" y="6127920"/>
            <a:ext cx="638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3905" descr=""/>
          <p:cNvPicPr/>
          <p:nvPr/>
        </p:nvPicPr>
        <p:blipFill>
          <a:blip r:embed="rId1"/>
          <a:stretch/>
        </p:blipFill>
        <p:spPr>
          <a:xfrm>
            <a:off x="399960" y="1328760"/>
            <a:ext cx="8344080" cy="420048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3906"/>
          <p:cNvSpPr/>
          <p:nvPr/>
        </p:nvSpPr>
        <p:spPr>
          <a:xfrm>
            <a:off x="8148600" y="3019320"/>
            <a:ext cx="428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288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81880" cy="522000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2882"/>
          <p:cNvSpPr/>
          <p:nvPr/>
        </p:nvSpPr>
        <p:spPr>
          <a:xfrm>
            <a:off x="5529240" y="125748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2883"/>
          <p:cNvSpPr/>
          <p:nvPr/>
        </p:nvSpPr>
        <p:spPr>
          <a:xfrm>
            <a:off x="2843280" y="1628640"/>
            <a:ext cx="619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2884"/>
          <p:cNvSpPr/>
          <p:nvPr/>
        </p:nvSpPr>
        <p:spPr>
          <a:xfrm>
            <a:off x="7885080" y="1628640"/>
            <a:ext cx="619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2885"/>
          <p:cNvSpPr/>
          <p:nvPr/>
        </p:nvSpPr>
        <p:spPr>
          <a:xfrm>
            <a:off x="2050920" y="201312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2886"/>
          <p:cNvSpPr/>
          <p:nvPr/>
        </p:nvSpPr>
        <p:spPr>
          <a:xfrm>
            <a:off x="5508720" y="2401920"/>
            <a:ext cx="9046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2887"/>
          <p:cNvSpPr/>
          <p:nvPr/>
        </p:nvSpPr>
        <p:spPr>
          <a:xfrm>
            <a:off x="8224920" y="237816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2888"/>
          <p:cNvSpPr/>
          <p:nvPr/>
        </p:nvSpPr>
        <p:spPr>
          <a:xfrm>
            <a:off x="3708360" y="278136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2889"/>
          <p:cNvSpPr/>
          <p:nvPr/>
        </p:nvSpPr>
        <p:spPr>
          <a:xfrm>
            <a:off x="6804000" y="278136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2890"/>
          <p:cNvSpPr/>
          <p:nvPr/>
        </p:nvSpPr>
        <p:spPr>
          <a:xfrm>
            <a:off x="2050920" y="314172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2891"/>
          <p:cNvSpPr/>
          <p:nvPr/>
        </p:nvSpPr>
        <p:spPr>
          <a:xfrm>
            <a:off x="5219640" y="3141720"/>
            <a:ext cx="619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2892"/>
          <p:cNvSpPr/>
          <p:nvPr/>
        </p:nvSpPr>
        <p:spPr>
          <a:xfrm>
            <a:off x="7596360" y="3141720"/>
            <a:ext cx="6188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2893"/>
          <p:cNvSpPr/>
          <p:nvPr/>
        </p:nvSpPr>
        <p:spPr>
          <a:xfrm>
            <a:off x="1476360" y="3500280"/>
            <a:ext cx="619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2894"/>
          <p:cNvSpPr/>
          <p:nvPr/>
        </p:nvSpPr>
        <p:spPr>
          <a:xfrm>
            <a:off x="4067280" y="3500280"/>
            <a:ext cx="619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2895"/>
          <p:cNvSpPr/>
          <p:nvPr/>
        </p:nvSpPr>
        <p:spPr>
          <a:xfrm>
            <a:off x="8158320" y="4371840"/>
            <a:ext cx="428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21857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01000" cy="424836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1858"/>
          <p:cNvSpPr/>
          <p:nvPr/>
        </p:nvSpPr>
        <p:spPr>
          <a:xfrm>
            <a:off x="7786800" y="193356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1859"/>
          <p:cNvSpPr/>
          <p:nvPr/>
        </p:nvSpPr>
        <p:spPr>
          <a:xfrm>
            <a:off x="7812000" y="458136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20833" descr=""/>
          <p:cNvPicPr/>
          <p:nvPr/>
        </p:nvPicPr>
        <p:blipFill>
          <a:blip r:embed="rId1"/>
          <a:stretch/>
        </p:blipFill>
        <p:spPr>
          <a:xfrm>
            <a:off x="557280" y="923760"/>
            <a:ext cx="8029440" cy="501048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20834"/>
          <p:cNvSpPr/>
          <p:nvPr/>
        </p:nvSpPr>
        <p:spPr>
          <a:xfrm>
            <a:off x="5462640" y="268596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9809" descr=""/>
          <p:cNvPicPr/>
          <p:nvPr/>
        </p:nvPicPr>
        <p:blipFill>
          <a:blip r:embed="rId1"/>
          <a:stretch/>
        </p:blipFill>
        <p:spPr>
          <a:xfrm>
            <a:off x="557280" y="1233360"/>
            <a:ext cx="8029440" cy="439128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9810"/>
          <p:cNvSpPr/>
          <p:nvPr/>
        </p:nvSpPr>
        <p:spPr>
          <a:xfrm>
            <a:off x="7777080" y="124776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9811"/>
          <p:cNvSpPr/>
          <p:nvPr/>
        </p:nvSpPr>
        <p:spPr>
          <a:xfrm>
            <a:off x="7812000" y="4724280"/>
            <a:ext cx="447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878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29440" cy="441972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118786" descr=""/>
          <p:cNvPicPr/>
          <p:nvPr/>
        </p:nvPicPr>
        <p:blipFill>
          <a:blip r:embed="rId2"/>
          <a:stretch/>
        </p:blipFill>
        <p:spPr>
          <a:xfrm>
            <a:off x="1042920" y="544500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118787" descr=""/>
          <p:cNvPicPr/>
          <p:nvPr/>
        </p:nvPicPr>
        <p:blipFill>
          <a:blip r:embed="rId3"/>
          <a:stretch/>
        </p:blipFill>
        <p:spPr>
          <a:xfrm>
            <a:off x="7740720" y="4797360"/>
            <a:ext cx="1038240" cy="36216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18788"/>
          <p:cNvSpPr/>
          <p:nvPr/>
        </p:nvSpPr>
        <p:spPr>
          <a:xfrm>
            <a:off x="7996320" y="476244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7761" descr=""/>
          <p:cNvPicPr/>
          <p:nvPr/>
        </p:nvPicPr>
        <p:blipFill>
          <a:blip r:embed="rId1"/>
          <a:stretch/>
        </p:blipFill>
        <p:spPr>
          <a:xfrm>
            <a:off x="571680" y="1728720"/>
            <a:ext cx="8001000" cy="340056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17762"/>
          <p:cNvSpPr/>
          <p:nvPr/>
        </p:nvSpPr>
        <p:spPr>
          <a:xfrm>
            <a:off x="6891480" y="40482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7763"/>
          <p:cNvSpPr/>
          <p:nvPr/>
        </p:nvSpPr>
        <p:spPr>
          <a:xfrm>
            <a:off x="2195640" y="46530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7764"/>
          <p:cNvSpPr/>
          <p:nvPr/>
        </p:nvSpPr>
        <p:spPr>
          <a:xfrm>
            <a:off x="5508720" y="4653000"/>
            <a:ext cx="4474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5:36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